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F8B-AE3F-496C-9D07-2AE340DB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49E-7965-4660-812A-857EC950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FCB-932B-4E24-B49A-259B1C7D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417-EC02-4E39-A4F6-15738CDF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D39-24D0-409B-BA72-EAE126A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6DD-FAA8-4722-9740-46AA55BA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D55-1F81-47C4-96B7-38DB5BE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4CC-EE98-4B34-8BBB-B8615C9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3DF-6D60-428E-8E39-EDCDBD7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C8F-32C6-464B-916B-638BF40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C3E-F5E0-4D41-A2F1-B32AD60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F43-8900-4432-B1C8-FBA96B6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0B3-668B-4BA6-A0B4-B3296AD6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Europe 16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entral_Europe_1660"/>
          <p:cNvPicPr/>
          <p:nvPr/>
        </p:nvPicPr>
        <p:blipFill>
          <a:blip r:embed="rId1"/>
          <a:stretch/>
        </p:blipFill>
        <p:spPr>
          <a:xfrm>
            <a:off x="380880" y="552600"/>
            <a:ext cx="82296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h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o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t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t"/>
          <p:cNvPicPr/>
          <p:nvPr/>
        </p:nvPicPr>
        <p:blipFill>
          <a:blip r:embed="rId2"/>
          <a:stretch/>
        </p:blipFill>
        <p:spPr>
          <a:xfrm>
            <a:off x="0" y="3405240"/>
            <a:ext cx="4495680" cy="34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St"/>
          <p:cNvPicPr/>
          <p:nvPr/>
        </p:nvPicPr>
        <p:blipFill>
          <a:blip r:embed="rId3"/>
          <a:stretch/>
        </p:blipFill>
        <p:spPr>
          <a:xfrm>
            <a:off x="5261040" y="228600"/>
            <a:ext cx="3882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, a new military power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Northern War-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access to a warm water port- Baltic- Locates 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s in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outh gains limited access to the Black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War College- move to professional armie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an army (conscription) 300,000—Life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adds Terr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700-talet_1"/>
          <p:cNvPicPr/>
          <p:nvPr/>
        </p:nvPicPr>
        <p:blipFill>
          <a:blip r:embed="rId1"/>
          <a:stretch/>
        </p:blipFill>
        <p:spPr>
          <a:xfrm>
            <a:off x="1600200" y="2209680"/>
            <a:ext cx="2894040" cy="388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ngria"/>
          <p:cNvPicPr/>
          <p:nvPr/>
        </p:nvPicPr>
        <p:blipFill>
          <a:blip r:embed="rId2"/>
          <a:stretch/>
        </p:blipFill>
        <p:spPr>
          <a:xfrm>
            <a:off x="5334120" y="2286000"/>
            <a:ext cx="25527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n Habsburg Empi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lting Pot or Mosa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absblands1732"/>
          <p:cNvPicPr/>
          <p:nvPr/>
        </p:nvPicPr>
        <p:blipFill>
          <a:blip r:embed="rId1"/>
          <a:stretch/>
        </p:blipFill>
        <p:spPr>
          <a:xfrm>
            <a:off x="533520" y="1752480"/>
            <a:ext cx="6210360" cy="483876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 flipH="1">
            <a:off x="4343400" y="38862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781680" y="3657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gary (magy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086600" y="54864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657240" y="510552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162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3733560" y="1523880"/>
            <a:ext cx="24382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248520" y="1295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h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3657240" y="320040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238880" y="29718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165080" y="2971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 flipH="1">
            <a:off x="4571640" y="2438280"/>
            <a:ext cx="2590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7301880" y="20937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nb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chonbrun"/>
          <p:cNvPicPr/>
          <p:nvPr/>
        </p:nvPicPr>
        <p:blipFill>
          <a:blip r:embed="rId1"/>
          <a:stretch/>
        </p:blipFill>
        <p:spPr>
          <a:xfrm>
            <a:off x="2133720" y="1752480"/>
            <a:ext cx="4552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sburg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-&gt;Spanish Lin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Philip Habsburg married- Ferdinand and Isabella’s dau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V- divided Habsbu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bsburgs -&gt;son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n Habsburgs-&gt; brother-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bsburgs-&gt; run out of heirs-earl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Louis IV (France) grandson- Bourbon- becomes King (see war Spanish Succ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n Habsburgs run out of male heirs- dad tries to get his daughter Queen…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gmatic Sa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828800"/>
            <a:ext cx="750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1713-by Charles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led to the War of the Austrian Succession 1740-17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Silesi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ents Austria more towards the east-&gt;Hungary and Bal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200px-Maria_Theresia_of_Spain"/>
          <p:cNvPicPr/>
          <p:nvPr/>
        </p:nvPicPr>
        <p:blipFill>
          <a:blip r:embed="rId1"/>
          <a:stretch/>
        </p:blipFill>
        <p:spPr>
          <a:xfrm>
            <a:off x="6958080" y="0"/>
            <a:ext cx="218592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514600" y="4687920"/>
            <a:ext cx="4181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 Theresa- ruled 1740-1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d jointly with her son, Joseph II 1765-1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CHILDREN!!! Incl. Marie Anto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 the Ri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P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4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litary in search of a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henzoller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William the 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Brandenburg and 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and militar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unke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gration of Jews and Huegeo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riedrich-Christian"/>
          <p:cNvPicPr/>
          <p:nvPr/>
        </p:nvPicPr>
        <p:blipFill>
          <a:blip r:embed="rId1"/>
          <a:stretch/>
        </p:blipFill>
        <p:spPr>
          <a:xfrm>
            <a:off x="6291360" y="76320"/>
            <a:ext cx="28782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ussia Exp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II (the Great) 1740-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land from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lightened or Despoti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derick the Gre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iscuss---chapter 1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frederick_portrait_at_ferney14k"/>
          <p:cNvPicPr/>
          <p:nvPr/>
        </p:nvPicPr>
        <p:blipFill>
          <a:blip r:embed="rId1"/>
          <a:stretch/>
        </p:blipFill>
        <p:spPr>
          <a:xfrm>
            <a:off x="3257640" y="2230560"/>
            <a:ext cx="2628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Europe 17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entral_Europe_1780"/>
          <p:cNvPicPr/>
          <p:nvPr/>
        </p:nvPicPr>
        <p:blipFill>
          <a:blip r:embed="rId1"/>
          <a:stretch/>
        </p:blipFill>
        <p:spPr>
          <a:xfrm>
            <a:off x="533520" y="668160"/>
            <a:ext cx="807696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ou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sansb"/>
          <p:cNvPicPr/>
          <p:nvPr/>
        </p:nvPicPr>
        <p:blipFill>
          <a:blip r:embed="rId1"/>
          <a:stretch/>
        </p:blipFill>
        <p:spPr>
          <a:xfrm>
            <a:off x="1143000" y="1219320"/>
            <a:ext cx="6095880" cy="402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otsdam04"/>
          <p:cNvPicPr/>
          <p:nvPr/>
        </p:nvPicPr>
        <p:blipFill>
          <a:blip r:embed="rId2"/>
          <a:stretch/>
        </p:blipFill>
        <p:spPr>
          <a:xfrm>
            <a:off x="53341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expands and central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 (part of modern day Germany) militarizes and assert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 (Habsburg) moves East and South, and makes way for a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ov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Tro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Romanov- Rises to Power (mid-17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oscow krelmin2"/>
          <p:cNvPicPr/>
          <p:nvPr/>
        </p:nvPicPr>
        <p:blipFill>
          <a:blip r:embed="rId1"/>
          <a:stretch/>
        </p:blipFill>
        <p:spPr>
          <a:xfrm>
            <a:off x="2209680" y="3276720"/>
            <a:ext cx="45658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t"/>
          <p:cNvPicPr/>
          <p:nvPr/>
        </p:nvPicPr>
        <p:blipFill>
          <a:blip r:embed="rId1"/>
          <a:stretch/>
        </p:blipFill>
        <p:spPr>
          <a:xfrm>
            <a:off x="5151600" y="914400"/>
            <a:ext cx="3995640" cy="532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646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Good to be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ize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ed incognito through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to do if you are 6’8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School-Acade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tic Sea- Great Norther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less! Killed his only son, tried hi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fe for adultery and imprisoned his mi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ing for Power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y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bility of Russia, their beards are shorn and government servic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- Peasants and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ryabushkin7"/>
          <p:cNvPicPr/>
          <p:nvPr/>
        </p:nvPicPr>
        <p:blipFill>
          <a:blip r:embed="rId1"/>
          <a:stretch/>
        </p:blipFill>
        <p:spPr>
          <a:xfrm>
            <a:off x="3276720" y="3733920"/>
            <a:ext cx="4645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 takes control of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s – Church Elites – Abolished- created a synod– Peter got to name the cou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oscow kremlin_1"/>
          <p:cNvPicPr/>
          <p:nvPr/>
        </p:nvPicPr>
        <p:blipFill>
          <a:blip r:embed="rId1"/>
          <a:stretch/>
        </p:blipFill>
        <p:spPr>
          <a:xfrm>
            <a:off x="228600" y="35053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t"/>
          <p:cNvPicPr/>
          <p:nvPr/>
        </p:nvPicPr>
        <p:blipFill>
          <a:blip r:embed="rId2"/>
          <a:stretch/>
        </p:blipFill>
        <p:spPr>
          <a:xfrm>
            <a:off x="6745320" y="3660840"/>
            <a:ext cx="2398680" cy="319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patriarch-alexiy-ii"/>
          <p:cNvPicPr/>
          <p:nvPr/>
        </p:nvPicPr>
        <p:blipFill>
          <a:blip r:embed="rId3"/>
          <a:stretch/>
        </p:blipFill>
        <p:spPr>
          <a:xfrm>
            <a:off x="3733920" y="3048120"/>
            <a:ext cx="1904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ugating the Militar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treltsy- Palace Gu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inting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ning of the execution of the Strelt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urikov-streltsy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Peter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on 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t"/>
          <p:cNvPicPr/>
          <p:nvPr/>
        </p:nvPicPr>
        <p:blipFill>
          <a:blip r:embed="rId1"/>
          <a:stretch/>
        </p:blipFill>
        <p:spPr>
          <a:xfrm>
            <a:off x="1523880" y="182880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4:39:14Z</dcterms:created>
  <dc:creator>Darien Public Schools</dc:creator>
  <dc:description/>
  <dc:language>en-US</dc:language>
  <cp:lastModifiedBy>Balazs, Stephen</cp:lastModifiedBy>
  <dcterms:modified xsi:type="dcterms:W3CDTF">2014-03-21T13:12:02Z</dcterms:modified>
  <cp:revision>21</cp:revision>
  <dc:subject/>
  <dc:title>Peter the Great</dc:title>
</cp:coreProperties>
</file>